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4C2E-E039-4922-834B-826EE181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4E64-CDE9-4F90-94E9-11AA8554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8110-80F8-4F45-8707-6D3700B2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DEF1-DBA4-4BB0-BBB0-AEDB3FD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D2C-E5B0-4FB3-A14A-B361EC7B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DA5-5253-440F-9777-B74D52F3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5D04-D86D-4957-8962-758C1C82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BB59-262E-4342-97CE-93647B70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AA7-C5A9-4ED1-88EB-4E2F7D43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44C5-6CC1-47D8-A417-32C89C1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C8C-DA2B-47FE-86E8-BF4DC1E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973F-35C2-4A70-8367-DB49F266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BC49-14F3-47FD-87BD-48C3D8F7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1FA3-5A42-480E-88F2-4D384D7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40D8-685B-44A0-98E5-252CA73B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E08-ECDD-49AF-9E52-42B51C32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0A7F-19A7-47E3-A9BF-FB3A2AB3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EB9F-8116-4777-8978-09C48758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4C82-AC00-4B4C-8475-0C18113D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5268-E91A-4477-BE85-22B79122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DCBF-B05E-432A-A35F-49D9018C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4AFC-327D-46B2-A14C-428AD61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F9FA-A7C6-4350-ACF4-86A511C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EF21-679B-4CB3-86EA-16F0D783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A929-D99C-44D9-8CBD-C0A0D5FDB2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5C3A-8AFA-4DAE-97A5-8D46AA45F7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cc"/>
                </a:solidFill>
                <a:latin typeface="Tahoma"/>
              </a:rPr>
              <a:t>Police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0000" y="2060640"/>
            <a:ext cx="72136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Hello I’m going to tell you all about polic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602160" cy="2720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488960" cy="198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1422360" cy="2060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76640" y="2751120"/>
            <a:ext cx="22356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6325" y="7640"/>
                </a:moveTo>
                <a:cubicBezTo>
                  <a:pt x="6532" y="7640"/>
                  <a:pt x="6738" y="7640"/>
                  <a:pt x="6945" y="76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Police tools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lice use all different types of tools, handcuffs, batons, pepper spray,S.R.B.A,radio and many other types of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216160" cy="18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1701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ffffcc"/>
                </a:solidFill>
                <a:latin typeface="Tahoma"/>
              </a:rPr>
              <a:t>Different police type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89520" y="2060640"/>
            <a:ext cx="4254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re are many different types of police, dog handlers school educators, traffic officers and many other 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0910600">
            <a:off x="528480" y="3948120"/>
            <a:ext cx="24069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48360" y="5157720"/>
            <a:ext cx="2786040" cy="156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453600">
            <a:off x="1187280" y="126828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ffffcc"/>
                </a:solidFill>
                <a:latin typeface="Tahoma"/>
              </a:rPr>
              <a:t>111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111 is when there is an emergency so if there has been a robber in your house call 111 right away! But don’t call them when your being si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1185400">
            <a:off x="900000" y="404640"/>
            <a:ext cx="163044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513000">
            <a:off x="6011640" y="620640"/>
            <a:ext cx="200016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4818240"/>
            <a:ext cx="252072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lice dog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lice dogs are mainly German Shepherds dog handlers look after them at their hou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21420000">
            <a:off x="5579640" y="3357360"/>
            <a:ext cx="2697120" cy="269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1103200">
            <a:off x="705960" y="3747600"/>
            <a:ext cx="374328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lice ca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ifferent places have many different types of police c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Lamborghini Gallarado is the fastest police car around the world it was made in Ita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re are New Zealand police cars too that have really loud sir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5484960"/>
            <a:ext cx="2399040" cy="1373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567600">
            <a:off x="6300720" y="5157720"/>
            <a:ext cx="1963800" cy="14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Blow tes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hen police are patrolling the streets when someone is speeding they stop the person and do a blow test on them to see if they have been drinking or have taken dru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444600">
            <a:off x="6084360" y="477720"/>
            <a:ext cx="2627640" cy="262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21158400">
            <a:off x="5724000" y="3645000"/>
            <a:ext cx="2473560" cy="26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cc"/>
                </a:solidFill>
                <a:latin typeface="Tahoma"/>
              </a:rPr>
              <a:t>Thank you for watching By Mya 5e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21318600">
            <a:off x="539280" y="4292640"/>
            <a:ext cx="1976400" cy="217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132000" y="3357720"/>
            <a:ext cx="2054520" cy="1369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 rot="327000">
            <a:off x="5651640" y="4076280"/>
            <a:ext cx="3090600" cy="220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7:24Z</dcterms:created>
  <dc:creator>5e04</dc:creator>
  <dc:description/>
  <dc:language>en-US</dc:language>
  <cp:lastModifiedBy>5e04</cp:lastModifiedBy>
  <dcterms:modified xsi:type="dcterms:W3CDTF">2011-09-05T02:21:31Z</dcterms:modified>
  <cp:revision>7</cp:revision>
  <dc:subject/>
  <dc:title>Police</dc:title>
</cp:coreProperties>
</file>